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BB2-F5AE-4564-A533-8628DBA1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694-48E7-4BE6-9FA1-ED0A9380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E7BD-DD55-4AA6-8617-C57661DC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73A-53BC-4FF9-8DCD-339D0508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128C-C973-4991-B6AB-3DC74F72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F24C-8A56-45C7-B824-BDE40060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3A7C-3F4C-48BC-B5F4-903F46F9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6A79-80AD-4E69-BDED-6C376CDA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4F5-F230-4DDA-AF48-6469A45A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E9A4-1BCD-4D2C-A7EC-C771E523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6E90-1C06-498F-9373-08C325C0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0EE-DF85-487E-9149-30627647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094B-9F1A-491D-845A-4BED0678C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68580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6160" y="0"/>
          <a:ext cx="656424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0"/>
                    <a:ext cx="656424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19160" y="0"/>
          <a:ext cx="661824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160" y="0"/>
                    <a:ext cx="661824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6320" y="0"/>
          <a:ext cx="670392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0"/>
                    <a:ext cx="670392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57320" y="0"/>
          <a:ext cx="654192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0"/>
                    <a:ext cx="654192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43080" y="0"/>
          <a:ext cx="6172200" cy="914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6172200" cy="914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our</cp:lastModifiedBy>
  <dcterms:modified xsi:type="dcterms:W3CDTF">2009-03-10T11:33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